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178-61C4-44D6-9FAC-DB7E042F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132-8F6D-4B28-B006-3C87BADE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26E-FC57-4403-8DA9-DFEBEF8B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CA6-8B1E-4F09-9933-18E5AA46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26E3-949D-4FF0-9359-8EFEDAE9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522D-9682-4245-A6C5-7F115EFC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9059-3825-48F6-9658-11FEB2C6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9DCD-2A96-4D00-B2F1-6978D2E5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8D7C-0577-4096-B943-4981C1D9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7F2C-3923-4235-B9DE-4ACC220E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869A-E690-46E9-A342-38AD6AB7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CF5-F82B-43B0-B804-B7600D57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56D7-F310-4891-9A88-C66713EA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BAAF-7436-4F08-AA06-AA361101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A08E-2A5A-4125-B4B1-1A92CFB5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BD5E-C424-4E6F-ACAD-57F22683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7977-7E0B-4B2C-9B7D-35A64D42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36B-1465-4F8E-BD3C-517AEBF7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A7E-588A-4A99-BEDE-C5CF7F44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7EC-6C4F-4B01-AD87-819A4328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394-2378-4083-AA6D-ADF47FD7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FCE-B414-40D0-BC21-1FC5A81A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012-5D91-4764-AD5B-B34EBF8A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E20-26B7-498C-B57A-4E686212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6c6c6c"/>
                </a:gs>
                <a:gs pos="100000">
                  <a:srgbClr val="4d4d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8B54-A22F-48D1-9F40-FA642A72FDA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6c6c6c"/>
                </a:gs>
                <a:gs pos="100000">
                  <a:srgbClr val="4d4d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E8F4-AD97-4F0B-8E30-C09E97A53F4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7c8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7c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Warm-up:  MSA Review Day 11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Unit 8: Statistics and Probability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jective:  Students will create and interpret frequency ta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bjective: Objective:  Students will create and interpret frequency tables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equency tabl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sts the number of times each item occurs in a set of dat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 How to make a frequency table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) (gather data) You do a survey of 15 kids in class to see what their favorite colors are. The results are: 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yellow, blue, blue, red, orange, pink, pink, pink, blue, green, orange, yellow, red, red, blu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) Next make a chart putting the choices on the side, a place to make tallies and a place to total up the tallies (called the frequenc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3809880"/>
          <a:ext cx="6400800" cy="276696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ll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 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siblings each student has: 1, 4, 3, 3, 2, 1, 1, 1, 1, 1, 2, 1, 2, 3, 2, 1, 2, 1, 1,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basketball team has 4 main positions: Point guard (pg), guard (g), Forward (f) and center (c). There were 20 girls who tried out, they played the following position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, g, pg, f, f, g, g, g, g, f, c, f, c, c, g, f, f, c, g, g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bjective: Objective:  Students will create and interpret frequency tab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last frequency table you mad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osition was most popular amongst the basketball players? Explain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many more players are guards than cente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ass Survey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5 minutes to survey the people in our class asking them the two questio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the data you collected to create a frequency ta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equency Table BC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27:53Z</dcterms:created>
  <dc:creator>TAMMY  COON</dc:creator>
  <dc:description/>
  <dc:language>en-US</dc:language>
  <cp:lastModifiedBy>deanne elizabeth mcgrath</cp:lastModifiedBy>
  <dcterms:modified xsi:type="dcterms:W3CDTF">2011-02-28T18:38:37Z</dcterms:modified>
  <cp:revision>13</cp:revision>
  <dc:subject/>
  <dc:title>Opener</dc:title>
</cp:coreProperties>
</file>